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94D-8E5F-4761-9C83-CFF714E4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EFB-DDAB-41C4-9332-44390202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0CA-2699-4D9C-86A0-C9349C45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F23-2EED-4A74-AA0A-9CFD5A46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626-AF59-4A95-B1D0-A0876399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C33-8B42-4590-930C-943F91EC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304-6FF9-48AA-8AC4-A2605331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059-1D49-4390-81E9-30C66BDE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E62-ACC1-4DE6-9C77-FB509E6A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A46-4F9C-4881-8986-0C437DB6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593-ABB1-4BBE-AA36-36C93E28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04F-BA4A-41E2-9B4F-84031376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0776-21A8-4CB9-B08A-274A6FE2E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Venn Diagram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Bar Grap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at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ict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gular Polygon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olid Figur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pher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rapezoid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Vert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enominator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ight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rac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ixed Number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Num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ixth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ent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hird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ol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Unit F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+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-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ssociative Property of Addi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Associative Property of Multiplic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mmutative Property of Addi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Commutative Property of Multiplic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ifferenc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dentity Property of Addi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Identity Property of Multiplic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-grouping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housands pla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stimat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xpanded Form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lace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stimat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oo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ur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econd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emperatur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hermomet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Y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ngl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cav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vex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elsius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ahrenhei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entimeter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ub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ylinder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d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ac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exag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rregular Polygon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ent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lane Figur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olyg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Quadrilateral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ctangular P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0:44:08Z</dcterms:created>
  <dc:creator>Abby Owens</dc:creator>
  <dc:description/>
  <dc:language>en-US</dc:language>
  <cp:lastModifiedBy>Abby Owens</cp:lastModifiedBy>
  <dcterms:modified xsi:type="dcterms:W3CDTF">2010-05-28T01:14:28Z</dcterms:modified>
  <cp:revision>15</cp:revision>
  <dc:subject/>
  <dc:title>Venn Diagram  Graph  Pictograph</dc:title>
</cp:coreProperties>
</file>